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0.jpeg" ContentType="image/jpe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3.png" ContentType="image/png"/>
  <Override PartName="/ppt/media/image40.jpeg" ContentType="image/jpeg"/>
  <Override PartName="/ppt/media/image45.png" ContentType="image/png"/>
  <Override PartName="/ppt/media/image44.jpeg" ContentType="image/jpeg"/>
  <Override PartName="/ppt/media/image41.jpeg" ContentType="image/jpeg"/>
  <Override PartName="/ppt/media/image38.png" ContentType="image/png"/>
  <Override PartName="/ppt/media/image8.jpeg" ContentType="image/jpeg"/>
  <Override PartName="/ppt/media/image35.png" ContentType="image/png"/>
  <Override PartName="/ppt/media/image43.jpeg" ContentType="image/jpeg"/>
  <Override PartName="/ppt/media/image5.png" ContentType="image/png"/>
  <Override PartName="/ppt/media/image29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39.png" ContentType="image/png"/>
  <Override PartName="/ppt/media/image25.png" ContentType="image/png"/>
  <Override PartName="/ppt/media/image42.jpeg" ContentType="image/jpeg"/>
  <Override PartName="/ppt/media/image19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7DC6-52AD-487A-8C7C-178D491CF2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plications for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need to practise the skills in order to consolidate the learning. It is important that these skills are in different contex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th Williams report and Renewed framework give greater attention to UAM. Look at progression – it’s on MOOD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need to set solving probs in wider ranging contex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lace emphasis on language and vocabulary of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D527-BA58-447D-A53E-4D783FAA799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plications for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need to practise the skills in order to consolidate the learning. It is important that these skills are in different contex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th Williams report and Renewed framework give greater attention to UAM. Look at progression – it’s on MOOD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need to set solving probs in wider ranging contex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lace emphasis on language and vocabulary of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7AFE-F046-412A-8744-D74B812E564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B77A-0EE9-43A8-A697-6568A63E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D7D-D6F6-4712-9E1D-C4B1D193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67B7-9763-428A-8BEC-1E594ED1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C7E-2C6F-4BF6-B176-FEE261A7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4853-375D-4A09-8CD4-252229CF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F500-AC07-42F6-8747-70ED700A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B3DB-917D-4630-BFE1-26F0BEC5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0539-F691-4625-B11E-D83C37EA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7186-E2AD-4F82-AFE3-69046035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15B8-94FF-4DC4-A626-5DEA89F8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F691-8286-4558-AC13-5888DB17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486D-CF23-449D-B324-1B5EBE9F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E987-EA7A-4DF9-833D-FDDBB2B5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0211-5DAB-476F-9921-93DC8C0B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0030-74B7-43D7-860C-F6EA1239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2DF6-62A7-42E5-AB85-AEFEBC4C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A128-8E60-4B47-92E2-70DD5A55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90083-61CE-47C1-B642-226D258B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21A31-6AA6-4595-BA4C-5A01CEC1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AEE69-0F14-4549-8F3E-89507589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1E333-EA5C-48C4-B6E0-DED4990F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08008-BE3B-4106-AD1C-8A727151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0861-C403-42E1-BA11-8488B8CD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F493D-DAA0-44ED-B241-604C0AF2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C7A96-3918-4DA5-A491-8F476295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F444B-CA39-466C-A1EA-FE05BAAB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DECFE-6597-4694-9F84-666D2844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06FBD-BAFA-4F8E-AF6A-FF4F108D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67D0F-F2F9-4B62-BA62-D96B6BE2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27D9-7193-474A-B5EA-973A0A4B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85ACA-6A83-41F6-BF7C-278E0E6F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ABBE2-9477-48EA-A316-4C272385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B2D29-E030-4959-8655-C55791DA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E315-033C-4FE3-B87D-935D8EA8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FDD36-A1B9-450C-AF22-4B261C85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65F24-1A72-4617-87FC-DEBD9AF3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69F95-BCCE-42EC-B87E-512391B4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3E2AC-89E9-4C76-92AA-3BB49582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B9441-F120-40F2-AA38-BA18060A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544F5-EC86-414C-821A-E9AF881B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4BCF8-AB05-47BD-8CD7-852E857C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A0BCC-A750-4CEA-B977-69CC22EE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C211B-5C70-4115-9F11-E491BFF7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C52-B366-46A3-809F-C5E28A54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849-4D9A-45B1-8134-5200CF5E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8C7-5A69-4E6F-9444-298D6FC5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BD8A-73CD-45A4-AE8E-8D7CD047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187F-DAFE-49B2-9583-90D58771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5B9F-A82C-44B3-80A4-04D668A41BA1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DD2E-1D74-4AD8-B766-169274DE1FE7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60CA-DCBD-45CE-9E5F-D5AF5B0D2B43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6D1F-8C88-4655-80AF-BE0A6B7C0897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fifa.com/worldcup/index.html" TargetMode="External"/><Relationship Id="rId3" Type="http://schemas.openxmlformats.org/officeDocument/2006/relationships/image" Target="../media/image7.png"/><Relationship Id="rId4" Type="http://schemas.openxmlformats.org/officeDocument/2006/relationships/hyperlink" Target="http://images.google.co.uk/imgres?imgurl=http://www.worldcup2010accomodation.net/userimages/fifa-world-cup-2010-schedule-mandela.jpg&amp;imgrefurl=http://worldcup2010accomodation.net/&amp;usg=__O1S9xqmBi2-y5cPcDDgICx73Y9A=&amp;h=295&amp;w=409&amp;sz=41&amp;hl=en&amp;start=3&amp;itbs=1&amp;tbnid=1XQKegl5DTDaRM:&amp;tbnh=90&amp;tbnw=125&amp;prev=/images?q=world+cup+2010&amp;hl=en&amp;safe=active&amp;gbv=2&amp;tbs=isch:1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nglandfootballonline.com/TeamPenalty/Index.html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englandfootballonline.com/TeamPenalty/Index.html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news.bbc.co.uk/player/sol/newsid_5110000/newsid_5111500/5111562.stm?bw=bb&amp;mp=wm&amp;news=1&amp;bbcws=1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image" Target="../media/image32.jpeg"/><Relationship Id="rId6" Type="http://schemas.openxmlformats.org/officeDocument/2006/relationships/image" Target="../media/image32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file:///PENALTIES%20-%20FINAL.xls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fifa.com/worldcup/preliminaries/matches/index.html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http://www.fifa.com/img/tournament/fwc/cities50_new.jpg"/>
          <p:cNvPicPr/>
          <p:nvPr/>
        </p:nvPicPr>
        <p:blipFill>
          <a:blip r:embed="rId1"/>
          <a:stretch/>
        </p:blipFill>
        <p:spPr>
          <a:xfrm>
            <a:off x="3286080" y="1643040"/>
            <a:ext cx="5319720" cy="4716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http://img.fifa.com/imgml/worldcup/head/wc2010logo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4200" y="500040"/>
            <a:ext cx="2403720" cy="2500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http://t2.gstatic.com/images?q=tbn:1XQKegl5DTDaRM:http://www.worldcup2010accomodation.net/userimages/fifa-world-cup-2010-schedule-mandel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3357720"/>
            <a:ext cx="28764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Fabio needs your help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4" descr="79038545, Bob Thomas/Getty Images /Bob Thomas Sports Photography"/>
          <p:cNvPicPr/>
          <p:nvPr/>
        </p:nvPicPr>
        <p:blipFill>
          <a:blip r:embed="rId1"/>
          <a:stretch/>
        </p:blipFill>
        <p:spPr>
          <a:xfrm>
            <a:off x="3714840" y="4857840"/>
            <a:ext cx="2546280" cy="1714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http://www.adifferentleague.co.uk/images/articles/gazza250809.jpg"/>
          <p:cNvPicPr/>
          <p:nvPr/>
        </p:nvPicPr>
        <p:blipFill>
          <a:blip r:embed="rId2"/>
          <a:stretch/>
        </p:blipFill>
        <p:spPr>
          <a:xfrm>
            <a:off x="6357960" y="4886280"/>
            <a:ext cx="2786040" cy="1671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79035301, Bob Thomas/Getty Images /Bob Thomas Sports Photography"/>
          <p:cNvPicPr/>
          <p:nvPr/>
        </p:nvPicPr>
        <p:blipFill>
          <a:blip r:embed="rId3"/>
          <a:stretch/>
        </p:blipFill>
        <p:spPr>
          <a:xfrm>
            <a:off x="214200" y="4500720"/>
            <a:ext cx="3365640" cy="23572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714240" y="1928880"/>
            <a:ext cx="72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standing the group stage (CW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the Goalkeeper (CW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nalty Shoot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o’s the best? (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orld Cup Final (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rcRect l="12304" t="11249" r="10352" b="5310"/>
          <a:stretch/>
        </p:blipFill>
        <p:spPr>
          <a:xfrm>
            <a:off x="0" y="338040"/>
            <a:ext cx="914400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85840" y="107172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derstanding the group stag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rter: Country trumps (a game which compares vital statistics about each country that participates) (Cardiff Crew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in: What is the minimum number of points needed in the group stage to qualif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minimum number of points needed in the group stage to win the group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minimum number of goals needed to score to win the World Cup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THS: Combinations, statistics, percenta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KS: Geograph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633240" y="2749680"/>
            <a:ext cx="7864560" cy="11570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45840" y="2999880"/>
            <a:ext cx="7854840" cy="714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3" descr="_41823270_beckhampenalty_getty416.jpg"/>
          <p:cNvPicPr/>
          <p:nvPr/>
        </p:nvPicPr>
        <p:blipFill>
          <a:blip r:embed="rId2"/>
          <a:stretch/>
        </p:blipFill>
        <p:spPr>
          <a:xfrm>
            <a:off x="0" y="4000680"/>
            <a:ext cx="4357800" cy="2857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y174970123190355.jpg"/>
          <p:cNvPicPr/>
          <p:nvPr/>
        </p:nvPicPr>
        <p:blipFill>
          <a:blip r:embed="rId3"/>
          <a:stretch/>
        </p:blipFill>
        <p:spPr>
          <a:xfrm>
            <a:off x="4929120" y="4000680"/>
            <a:ext cx="4214880" cy="2857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_41821058_8penbatty416.jpg"/>
          <p:cNvPicPr/>
          <p:nvPr/>
        </p:nvPicPr>
        <p:blipFill>
          <a:blip r:embed="rId4"/>
          <a:stretch/>
        </p:blipFill>
        <p:spPr>
          <a:xfrm>
            <a:off x="0" y="0"/>
            <a:ext cx="4357800" cy="2857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GD7361794@Manchester-United's-C-1295.preview.jpg"/>
          <p:cNvPicPr/>
          <p:nvPr/>
        </p:nvPicPr>
        <p:blipFill>
          <a:blip r:embed="rId5"/>
          <a:stretch/>
        </p:blipFill>
        <p:spPr>
          <a:xfrm>
            <a:off x="4857840" y="0"/>
            <a:ext cx="42861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 you like them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 you think they are fair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 you think they are a lottery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 you think footballers should practice them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 you think there is something bett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14200" y="90288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Only 33% enjoy watching penalty shootouts when their team is involv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But 84% enjoy watching other teams suffer in penalty shootou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Only half of our respondents are happy that penalty shootouts are used in games when their team is involv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69% believe that if footballers practice taking penalties they will increase the likelihood of scoring in a shootou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Only 35% believe that the possibility of going to a shootout influences the nature of the football during the first 90 minu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But 87% believe that the possibility of going to a shootout influences the nature of the football during extra ti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51% of people who expressed a view believe that penalty shootouts are a lotte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eople are evenly split on whether extra time should be extended to two periods of 20 minutes rather than two periods of 15 minu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Half of the people surveyed believed there was a better way than penalty shootouts to determine the result of drawn games in international football tournam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1862280" y="1397160"/>
          <a:ext cx="5418000" cy="4063680"/>
        </p:xfrm>
        <a:graphic>
          <a:graphicData uri="http://schemas.openxmlformats.org/drawingml/2006/table">
            <a:tbl>
              <a:tblPr/>
              <a:tblGrid>
                <a:gridCol w="2709720"/>
                <a:gridCol w="2708280"/>
              </a:tblGrid>
              <a:tr h="325080">
                <a:tc>
                  <a:txBody>
                    <a:bodyPr lIns="81360" rIns="81360" tIns="40680" bIns="40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NALTY SHOOTOUT WIN/LOSS 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</a:tr>
              <a:tr h="325080"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gent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ermany (inc West German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raz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rugu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ta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therlan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"/>
                        </a:rPr>
                        <a:t>Eng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rcRect l="21679" t="17815" r="13281" b="6250"/>
          <a:stretch/>
        </p:blipFill>
        <p:spPr>
          <a:xfrm>
            <a:off x="785880" y="428760"/>
            <a:ext cx="7929360" cy="578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928800" y="2071800"/>
          <a:ext cx="7715160" cy="2585880"/>
        </p:xfrm>
        <a:graphic>
          <a:graphicData uri="http://schemas.openxmlformats.org/drawingml/2006/table">
            <a:tbl>
              <a:tblPr/>
              <a:tblGrid>
                <a:gridCol w="1234800"/>
                <a:gridCol w="479520"/>
                <a:gridCol w="857160"/>
                <a:gridCol w="857520"/>
                <a:gridCol w="857160"/>
                <a:gridCol w="857160"/>
                <a:gridCol w="857160"/>
                <a:gridCol w="857520"/>
                <a:gridCol w="8571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gy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 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6)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4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6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7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0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2"/>
                        </a:rPr>
                        <a:t>Eng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8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0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Penalty shoot-outs: You can never tell who will win. Or can you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n the probability line below mark down where you think the probability of each person scoring will b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Straight Connector 5" descr=""/>
          <p:cNvPicPr/>
          <p:nvPr/>
        </p:nvPicPr>
        <p:blipFill>
          <a:blip r:embed="rId1"/>
          <a:stretch/>
        </p:blipFill>
        <p:spPr>
          <a:xfrm>
            <a:off x="493560" y="3340080"/>
            <a:ext cx="8083800" cy="255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6"/>
          <p:cNvSpPr/>
          <p:nvPr/>
        </p:nvSpPr>
        <p:spPr>
          <a:xfrm>
            <a:off x="196560" y="2928960"/>
            <a:ext cx="91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"/>
          <p:cNvSpPr/>
          <p:nvPr/>
        </p:nvSpPr>
        <p:spPr>
          <a:xfrm>
            <a:off x="3929040" y="285768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7861680" y="285768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nstantia"/>
              </a:rPr>
              <a:t>10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D:\Users\Christian\Local Settings\Temporary Internet Files\Content.IE5\D086EA2P\MPj04277690000[1].jpg"/>
          <p:cNvPicPr/>
          <p:nvPr/>
        </p:nvPicPr>
        <p:blipFill>
          <a:blip r:embed="rId2"/>
          <a:stretch/>
        </p:blipFill>
        <p:spPr>
          <a:xfrm>
            <a:off x="0" y="4910040"/>
            <a:ext cx="1428840" cy="1947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D:\Users\Christian\Local Settings\Temporary Internet Files\Content.IE5\7WJAZ6AR\MPj04026190000[1].jpg"/>
          <p:cNvPicPr/>
          <p:nvPr/>
        </p:nvPicPr>
        <p:blipFill>
          <a:blip r:embed="rId3"/>
          <a:stretch/>
        </p:blipFill>
        <p:spPr>
          <a:xfrm>
            <a:off x="7358040" y="5286240"/>
            <a:ext cx="1785960" cy="1571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D:\Users\Christian\Local Settings\Temporary Internet Files\Content.IE5\7WJAZ6AR\MPj04465930000[1].jpg"/>
          <p:cNvPicPr/>
          <p:nvPr/>
        </p:nvPicPr>
        <p:blipFill>
          <a:blip r:embed="rId4"/>
          <a:srcRect l="5483" t="17715" r="12230" b="30208"/>
          <a:stretch/>
        </p:blipFill>
        <p:spPr>
          <a:xfrm>
            <a:off x="1643040" y="4994280"/>
            <a:ext cx="2273400" cy="1863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5"/>
          <a:stretch/>
        </p:blipFill>
        <p:spPr>
          <a:xfrm>
            <a:off x="4143240" y="4981680"/>
            <a:ext cx="1571760" cy="1876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D:\Users\Christian\Local Settings\Temporary Internet Files\Content.IE5\7WJAZ6AR\MPj03168220000[1].jpg"/>
          <p:cNvPicPr/>
          <p:nvPr/>
        </p:nvPicPr>
        <p:blipFill>
          <a:blip r:embed="rId6"/>
          <a:stretch/>
        </p:blipFill>
        <p:spPr>
          <a:xfrm>
            <a:off x="5786280" y="4643280"/>
            <a:ext cx="15876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he scenario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You are the manager of England in this year’s World Cup. You have successfully steered your team to the Final against Brazil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ever, after 90 minutes and 30 minutes extra time played the score is still 0 – 0. The winner of the World Cup is to be decided on penaltie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s the management team your group must decide the 5 players that will take the penalties and take England to their first World Cup victory since 1966...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3" descr="D:\Users\Christian\My Documents\My Pictures\Microsoft Clip Organizer\j0433989.jpg"/>
          <p:cNvPicPr/>
          <p:nvPr/>
        </p:nvPicPr>
        <p:blipFill>
          <a:blip r:embed="rId1"/>
          <a:stretch/>
        </p:blipFill>
        <p:spPr>
          <a:xfrm>
            <a:off x="7429680" y="857160"/>
            <a:ext cx="171432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http://www.fifa.com/imgml/worldcup/preliminary/maps/europe.jpg"/>
          <p:cNvPicPr/>
          <p:nvPr/>
        </p:nvPicPr>
        <p:blipFill>
          <a:blip r:embed="rId1"/>
          <a:stretch/>
        </p:blipFill>
        <p:spPr>
          <a:xfrm>
            <a:off x="0" y="285840"/>
            <a:ext cx="4984920" cy="385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www.fifa.com/imgml/worldcup/preliminary/maps/africa.jpg"/>
          <p:cNvPicPr/>
          <p:nvPr/>
        </p:nvPicPr>
        <p:blipFill>
          <a:blip r:embed="rId2"/>
          <a:stretch/>
        </p:blipFill>
        <p:spPr>
          <a:xfrm>
            <a:off x="4143240" y="3027240"/>
            <a:ext cx="47149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ontent Placeholder 3" descr="image-2-for-penalty-shoot-out-roma-6-7-arsenal-gallery-692102826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428760" y="571680"/>
            <a:ext cx="778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nstantia"/>
              </a:rPr>
              <a:t>Who to choos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1785960" y="1500120"/>
            <a:ext cx="664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nstantia"/>
              </a:rPr>
              <a:t>There are many factors that affect who the best players may be to choose from your team: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nstantia"/>
              </a:rPr>
              <a:t>Ability to handle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nstantia"/>
              </a:rPr>
              <a:t>Position play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nstantia"/>
              </a:rPr>
              <a:t>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nstantia"/>
              </a:rPr>
              <a:t>How tired players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4617b"/>
                </a:solidFill>
                <a:latin typeface="Calibri"/>
              </a:rPr>
              <a:t>How to succeed in a penalty shoot-out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news.bbc.co.uk/player/sol/newsid_5110000/newsid_5111500/5111562.stm?bw=bb&amp;mp=wm&amp;news=1&amp;bbcws=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Picture 3" descr="image-13-for-everton-win-fa-cup-semi-final-after-penalty-shootout-gallery-232865782.jpg"/>
          <p:cNvPicPr/>
          <p:nvPr/>
        </p:nvPicPr>
        <p:blipFill>
          <a:blip r:embed="rId2"/>
          <a:stretch/>
        </p:blipFill>
        <p:spPr>
          <a:xfrm>
            <a:off x="2214720" y="3143160"/>
            <a:ext cx="505908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ime to get working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Your group will be given 2 sheets. One sheet will have the vital details of who, statistically, does the better in penalties – e.g. Those under 23 do better than those old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You will also be given a sheet of all your players on the pitc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Finally, you will be asked to give the 5 penalty takers to your teacher who will feed them into the computer and tell you how many goals England will score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Picture 2" descr="D:\Users\Christian\Local Settings\Temporary Internet Files\Content.IE5\D086EA2P\MCj04403620000[1].png"/>
          <p:cNvPicPr/>
          <p:nvPr/>
        </p:nvPicPr>
        <p:blipFill>
          <a:blip r:embed="rId1"/>
          <a:stretch/>
        </p:blipFill>
        <p:spPr>
          <a:xfrm>
            <a:off x="7286760" y="285840"/>
            <a:ext cx="2357280" cy="2357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D:\Users\Christian\Local Settings\Temporary Internet Files\Content.IE5\ARYCA7MV\MPj04340010000[1].jpg"/>
          <p:cNvPicPr/>
          <p:nvPr/>
        </p:nvPicPr>
        <p:blipFill>
          <a:blip r:embed="rId2"/>
          <a:stretch/>
        </p:blipFill>
        <p:spPr>
          <a:xfrm>
            <a:off x="0" y="571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D:\Users\Christian\Local Settings\Temporary Internet Files\Content.IE5\ARYCA7MV\MPj04340010000[1].jpg"/>
          <p:cNvPicPr/>
          <p:nvPr/>
        </p:nvPicPr>
        <p:blipFill>
          <a:blip r:embed="rId3"/>
          <a:stretch/>
        </p:blipFill>
        <p:spPr>
          <a:xfrm>
            <a:off x="1285920" y="571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D:\Users\Christian\Local Settings\Temporary Internet Files\Content.IE5\ARYCA7MV\MPj04340010000[1].jpg"/>
          <p:cNvPicPr/>
          <p:nvPr/>
        </p:nvPicPr>
        <p:blipFill>
          <a:blip r:embed="rId4"/>
          <a:stretch/>
        </p:blipFill>
        <p:spPr>
          <a:xfrm>
            <a:off x="2714760" y="571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D:\Users\Christian\My Documents\My Pictures\Microsoft Clip Organizer\j0433989.jpg"/>
          <p:cNvPicPr/>
          <p:nvPr/>
        </p:nvPicPr>
        <p:blipFill>
          <a:blip r:embed="rId5"/>
          <a:stretch/>
        </p:blipFill>
        <p:spPr>
          <a:xfrm>
            <a:off x="7429680" y="5643720"/>
            <a:ext cx="1714320" cy="1214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D:\Users\Christian\My Documents\My Pictures\Microsoft Clip Organizer\j0433989.jpg"/>
          <p:cNvPicPr/>
          <p:nvPr/>
        </p:nvPicPr>
        <p:blipFill>
          <a:blip r:embed="rId6"/>
          <a:stretch/>
        </p:blipFill>
        <p:spPr>
          <a:xfrm>
            <a:off x="6072120" y="5643720"/>
            <a:ext cx="1714680" cy="1214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D:\Users\Christian\My Documents\My Pictures\Microsoft Clip Organizer\j0433989.jpg"/>
          <p:cNvPicPr/>
          <p:nvPr/>
        </p:nvPicPr>
        <p:blipFill>
          <a:blip r:embed="rId7"/>
          <a:stretch/>
        </p:blipFill>
        <p:spPr>
          <a:xfrm>
            <a:off x="4714920" y="5643720"/>
            <a:ext cx="171432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4617b"/>
                </a:solidFill>
                <a:latin typeface="Calibri"/>
              </a:rPr>
              <a:t>THE PENALTY SHOOT-OUT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Content Placeholder 3" descr="Penalty.jpg"/>
          <p:cNvPicPr/>
          <p:nvPr/>
        </p:nvPicPr>
        <p:blipFill>
          <a:blip r:embed="rId1"/>
          <a:stretch/>
        </p:blipFill>
        <p:spPr>
          <a:xfrm>
            <a:off x="428760" y="1000080"/>
            <a:ext cx="8164440" cy="52149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3"/>
          <p:cNvSpPr/>
          <p:nvPr/>
        </p:nvSpPr>
        <p:spPr>
          <a:xfrm>
            <a:off x="357120" y="628668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PENALTIES - FINAL.x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12315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4617b"/>
                </a:solidFill>
                <a:latin typeface="Calibri"/>
              </a:rPr>
              <a:t>Possible contexts for </a:t>
            </a:r>
            <a:br>
              <a:rPr sz="4800"/>
            </a:br>
            <a:r>
              <a:rPr b="0" lang="en-GB" sz="4800" spc="-1" strike="noStrike">
                <a:solidFill>
                  <a:srgbClr val="04617b"/>
                </a:solidFill>
                <a:latin typeface="Calibri"/>
              </a:rPr>
              <a:t>problem solving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0040" y="271440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Let’s Go (S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Fabio needs your help! (CW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redict the winne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TV s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Should it happen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57120" y="328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redict the winner</a:t>
            </a:r>
            <a:br>
              <a:rPr sz="5000"/>
            </a:b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- Analysis Fifa data (CW)</a:t>
            </a:r>
            <a:br>
              <a:rPr sz="5000"/>
            </a:b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- Simulation  (SL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rcRect l="7618" t="14064" r="36133" b="8126"/>
          <a:stretch/>
        </p:blipFill>
        <p:spPr>
          <a:xfrm>
            <a:off x="357120" y="0"/>
            <a:ext cx="76010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"/>
          <p:cNvPicPr/>
          <p:nvPr/>
        </p:nvPicPr>
        <p:blipFill>
          <a:blip r:embed="rId1"/>
          <a:srcRect l="0" t="0" r="0" b="3435"/>
          <a:stretch/>
        </p:blipFill>
        <p:spPr>
          <a:xfrm>
            <a:off x="147600" y="714240"/>
            <a:ext cx="89964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12315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4617b"/>
                </a:solidFill>
                <a:latin typeface="Calibri"/>
              </a:rPr>
              <a:t>Possible contexts for </a:t>
            </a:r>
            <a:br>
              <a:rPr sz="4800"/>
            </a:br>
            <a:r>
              <a:rPr b="0" lang="en-GB" sz="4800" spc="-1" strike="noStrike">
                <a:solidFill>
                  <a:srgbClr val="04617b"/>
                </a:solidFill>
                <a:latin typeface="Calibri"/>
              </a:rPr>
              <a:t>problem solving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00040" y="271440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Let’s Go (S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Fabio needs your help! (CW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Predict the winne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M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Should it happen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7120" y="328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Media</a:t>
            </a:r>
            <a:br>
              <a:rPr sz="5000"/>
            </a:b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- TV Station (SL)</a:t>
            </a:r>
            <a:br>
              <a:rPr sz="5000"/>
            </a:b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- TV Boss - cameras (CW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12315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4617b"/>
                </a:solidFill>
                <a:latin typeface="Calibri"/>
              </a:rPr>
              <a:t>Possible contexts for </a:t>
            </a:r>
            <a:br>
              <a:rPr sz="4800"/>
            </a:br>
            <a:r>
              <a:rPr b="0" lang="en-GB" sz="4800" spc="-1" strike="noStrike">
                <a:solidFill>
                  <a:srgbClr val="04617b"/>
                </a:solidFill>
                <a:latin typeface="Calibri"/>
              </a:rPr>
              <a:t>problem solving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00040" y="271440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Let’s Go (S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Fabio needs your help! (CW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redict the winner! (CW/S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Media (SL/CW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hould it happen? (Cardiff Crew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142560" y="1142640"/>
            <a:ext cx="9001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am working in a TV station and the full time scores are coming in for a round of results. Unfortunately , although I know the half time results the full time results have been e-mailed in WITHOUT the names of the teams 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 you quickly attach the correct results togeth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it generally true that the team that was winning at half time won the match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fifa.com/worldcup/preliminaries/matches/index.htm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would this information affect your strategy to the gam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7120" y="328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hould it happen? </a:t>
            </a:r>
            <a:br>
              <a:rPr sz="5000"/>
            </a:b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(Cardiff Crew)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Box 2"/>
          <p:cNvSpPr/>
          <p:nvPr/>
        </p:nvSpPr>
        <p:spPr>
          <a:xfrm>
            <a:off x="214200" y="3000240"/>
            <a:ext cx="8715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uilding the stadiu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irport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oosting the local economy – what do fans sp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7120" y="328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Building the World Cup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http://t0.gstatic.com/images?q=tbn:2thkFRSTyABjXM:http://flarenetwork.org/files/2009/12/world-cup-2010-stadiums.jpg"/>
          <p:cNvPicPr/>
          <p:nvPr/>
        </p:nvPicPr>
        <p:blipFill>
          <a:blip r:embed="rId1"/>
          <a:stretch/>
        </p:blipFill>
        <p:spPr>
          <a:xfrm>
            <a:off x="2428920" y="1000080"/>
            <a:ext cx="35938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Picture 7" descr="http://bloggertone.com/peoplematters/files/fireworks.jpg"/>
          <p:cNvPicPr/>
          <p:nvPr/>
        </p:nvPicPr>
        <p:blipFill>
          <a:blip r:embed="rId1"/>
          <a:stretch/>
        </p:blipFill>
        <p:spPr>
          <a:xfrm>
            <a:off x="357120" y="270000"/>
            <a:ext cx="8240760" cy="6588000"/>
          </a:xfrm>
          <a:prstGeom prst="rect">
            <a:avLst/>
          </a:prstGeom>
          <a:ln w="0">
            <a:noFill/>
          </a:ln>
        </p:spPr>
      </p:pic>
      <p:sp>
        <p:nvSpPr>
          <p:cNvPr id="288" name="TextBox 4"/>
          <p:cNvSpPr/>
          <p:nvPr/>
        </p:nvSpPr>
        <p:spPr>
          <a:xfrm>
            <a:off x="428760" y="1857240"/>
            <a:ext cx="8358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00"/>
                </a:solidFill>
                <a:latin typeface="Calibri"/>
              </a:rPr>
              <a:t>There will be a big opening ceremon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Picture 4" descr="http://www.babble.com/CS/blogs/famecrawler/2008/05/23-End%20of%20Month/david-beckham.jpg"/>
          <p:cNvPicPr/>
          <p:nvPr/>
        </p:nvPicPr>
        <p:blipFill>
          <a:blip r:embed="rId1"/>
          <a:stretch/>
        </p:blipFill>
        <p:spPr>
          <a:xfrm>
            <a:off x="1071720" y="0"/>
            <a:ext cx="466704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"/>
          <p:cNvSpPr/>
          <p:nvPr/>
        </p:nvSpPr>
        <p:spPr>
          <a:xfrm>
            <a:off x="214200" y="4357800"/>
            <a:ext cx="52866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elson Mandela and David Beckham are concerned that there will not be enough room in the stadium for all the participating teams in the 2010 World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loud Callout 6"/>
          <p:cNvSpPr/>
          <p:nvPr/>
        </p:nvSpPr>
        <p:spPr>
          <a:xfrm>
            <a:off x="4286160" y="0"/>
            <a:ext cx="3357720" cy="1928880"/>
          </a:xfrm>
          <a:prstGeom prst="cloudCallout">
            <a:avLst>
              <a:gd name="adj1" fmla="val 24837"/>
              <a:gd name="adj2" fmla="val 73402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ill everybody f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loud Callout 8"/>
          <p:cNvSpPr/>
          <p:nvPr/>
        </p:nvSpPr>
        <p:spPr>
          <a:xfrm>
            <a:off x="-285840" y="0"/>
            <a:ext cx="3000600" cy="1500120"/>
          </a:xfrm>
          <a:prstGeom prst="cloudCallout">
            <a:avLst>
              <a:gd name="adj1" fmla="val 61638"/>
              <a:gd name="adj2" fmla="val 13060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on’t ask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0" descr="http://t2.gstatic.com/images?q=tbn:FZ0iSlhnzeajVM:http://www.remaxmidlands.co.za/upload/images/pietermaritzburg-nelson-mandela.JPG"/>
          <p:cNvPicPr/>
          <p:nvPr/>
        </p:nvPicPr>
        <p:blipFill>
          <a:blip r:embed="rId2"/>
          <a:stretch/>
        </p:blipFill>
        <p:spPr>
          <a:xfrm>
            <a:off x="5857920" y="2476440"/>
            <a:ext cx="328608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http://cache2.asset-cache.net/xc/78975904.jpg?v=1&amp;c=IWSAsset&amp;k=2&amp;d=77BFBA49EF87892155F29F61288AC1CA1053B06DBB1D58CC8124D4FB6904C64681C270B7C542F7AF"/>
          <p:cNvPicPr/>
          <p:nvPr/>
        </p:nvPicPr>
        <p:blipFill>
          <a:blip r:embed="rId1"/>
          <a:stretch/>
        </p:blipFill>
        <p:spPr>
          <a:xfrm>
            <a:off x="0" y="-14400"/>
            <a:ext cx="9237600" cy="678024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8"/>
          <p:cNvGrpSpPr/>
          <p:nvPr/>
        </p:nvGrpSpPr>
        <p:grpSpPr>
          <a:xfrm>
            <a:off x="1000080" y="1500120"/>
            <a:ext cx="6786720" cy="4429080"/>
            <a:chOff x="1000080" y="1500120"/>
            <a:chExt cx="6786720" cy="4429080"/>
          </a:xfrm>
        </p:grpSpPr>
        <p:grpSp>
          <p:nvGrpSpPr>
            <p:cNvPr id="298" name="Group 8"/>
            <p:cNvGrpSpPr/>
            <p:nvPr/>
          </p:nvGrpSpPr>
          <p:grpSpPr>
            <a:xfrm>
              <a:off x="1000080" y="2143080"/>
              <a:ext cx="6786720" cy="3786120"/>
              <a:chOff x="1000080" y="2143080"/>
              <a:chExt cx="6786720" cy="3786120"/>
            </a:xfrm>
          </p:grpSpPr>
          <p:sp>
            <p:nvSpPr>
              <p:cNvPr id="299" name="Oval 12"/>
              <p:cNvSpPr/>
              <p:nvPr/>
            </p:nvSpPr>
            <p:spPr>
              <a:xfrm>
                <a:off x="1000080" y="2143080"/>
                <a:ext cx="3492720" cy="3786120"/>
              </a:xfrm>
              <a:prstGeom prst="ellipse">
                <a:avLst/>
              </a:prstGeom>
              <a:solidFill>
                <a:srgbClr val="0f6fc6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13"/>
              <p:cNvSpPr/>
              <p:nvPr/>
            </p:nvSpPr>
            <p:spPr>
              <a:xfrm>
                <a:off x="4294080" y="2143080"/>
                <a:ext cx="3492720" cy="3786120"/>
              </a:xfrm>
              <a:prstGeom prst="ellipse">
                <a:avLst/>
              </a:prstGeom>
              <a:solidFill>
                <a:srgbClr val="0f6fc6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4"/>
              <p:cNvSpPr/>
              <p:nvPr/>
            </p:nvSpPr>
            <p:spPr>
              <a:xfrm>
                <a:off x="2597040" y="2143080"/>
                <a:ext cx="3392640" cy="3786120"/>
              </a:xfrm>
              <a:prstGeom prst="rect">
                <a:avLst/>
              </a:prstGeom>
              <a:solidFill>
                <a:srgbClr val="0f6fc6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TextBox 9"/>
            <p:cNvSpPr/>
            <p:nvPr/>
          </p:nvSpPr>
          <p:spPr>
            <a:xfrm>
              <a:off x="2571480" y="3714840"/>
              <a:ext cx="1571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Calibri"/>
                </a:rPr>
                <a:t>70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0"/>
            <p:cNvSpPr/>
            <p:nvPr/>
          </p:nvSpPr>
          <p:spPr>
            <a:xfrm>
              <a:off x="3714840" y="1500120"/>
              <a:ext cx="1571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Calibri"/>
                </a:rPr>
                <a:t>90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What is contextualised learning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28760" y="1571760"/>
            <a:ext cx="8229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arting with a theme and looking at what meaningful maths can come from this the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art with the maths – can we put it into a meaningful contex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Teacher Not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22120" y="1714680"/>
            <a:ext cx="8229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ossible difficul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ecuring the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rcRect l="16405" t="23437" r="16798" b="8126"/>
          <a:stretch/>
        </p:blipFill>
        <p:spPr>
          <a:xfrm>
            <a:off x="3786120" y="3427560"/>
            <a:ext cx="535788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315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4617b"/>
                </a:solidFill>
                <a:latin typeface="Calibri"/>
              </a:rPr>
              <a:t>Possible contexts for </a:t>
            </a:r>
            <a:br>
              <a:rPr sz="4800"/>
            </a:br>
            <a:r>
              <a:rPr b="0" lang="en-GB" sz="4800" spc="-1" strike="noStrike">
                <a:solidFill>
                  <a:srgbClr val="04617b"/>
                </a:solidFill>
                <a:latin typeface="Calibri"/>
              </a:rPr>
              <a:t>problem solving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00040" y="271440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Let’s Go (S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Fabio needs your help! (CW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Predict the winne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TV s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Should it happen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Let’s Go! (SL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28760" y="2214720"/>
            <a:ext cx="8229600" cy="29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 will you get there? (modes of transpor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en would you get ther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 much would it cost? Package vs independ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You are following the xxxxxxxxxx team, where would you base yourself? Understanding the group stage practical implic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300640" cy="3544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rcRect l="0" t="0" r="3906" b="0"/>
          <a:stretch/>
        </p:blipFill>
        <p:spPr>
          <a:xfrm>
            <a:off x="0" y="3643200"/>
            <a:ext cx="4500720" cy="2702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4572000" y="3643200"/>
            <a:ext cx="4357800" cy="26434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8"/>
          <p:cNvSpPr/>
          <p:nvPr/>
        </p:nvSpPr>
        <p:spPr>
          <a:xfrm>
            <a:off x="5715000" y="1143000"/>
            <a:ext cx="314316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omas Cook 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 Nights Group Stages in Johannesberg from £3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rcRect l="10547" t="15000" r="36720" b="24061"/>
          <a:stretch/>
        </p:blipFill>
        <p:spPr>
          <a:xfrm>
            <a:off x="0" y="0"/>
            <a:ext cx="6429240" cy="4643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rcRect l="10547" t="25313" r="37110" b="16564"/>
          <a:stretch/>
        </p:blipFill>
        <p:spPr>
          <a:xfrm>
            <a:off x="2762280" y="2428920"/>
            <a:ext cx="63817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rcRect l="12304" t="11249" r="10352" b="5310"/>
          <a:stretch/>
        </p:blipFill>
        <p:spPr>
          <a:xfrm>
            <a:off x="0" y="338040"/>
            <a:ext cx="914400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12315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4617b"/>
                </a:solidFill>
                <a:latin typeface="Calibri"/>
              </a:rPr>
              <a:t>Possible contexts for </a:t>
            </a:r>
            <a:br>
              <a:rPr sz="4800"/>
            </a:br>
            <a:r>
              <a:rPr b="0" lang="en-GB" sz="4800" spc="-1" strike="noStrike">
                <a:solidFill>
                  <a:srgbClr val="04617b"/>
                </a:solidFill>
                <a:latin typeface="Calibri"/>
              </a:rPr>
              <a:t>problem solving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00040" y="271440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Let’s Go (S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Fabio needs your help! (CW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Predict the winne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TV s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Should it happen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1:39:02Z</dcterms:created>
  <dc:creator>Christian</dc:creator>
  <dc:description/>
  <dc:language>en-US</dc:language>
  <cp:lastModifiedBy> </cp:lastModifiedBy>
  <dcterms:modified xsi:type="dcterms:W3CDTF">2010-12-03T16:34:10Z</dcterms:modified>
  <cp:revision>42</cp:revision>
  <dc:subject/>
  <dc:title>PENALTY SHOOT OUT</dc:title>
</cp:coreProperties>
</file>